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or.wav" ContentType="audio/x-wav"/>
  <Override PartName="/ppt/media/image1.jpeg" ContentType="image/jpeg"/>
  <Override PartName="/ppt/media/image2.png" ContentType="image/png"/>
  <Override PartName="/ppt/media/image3.jpeg" ContentType="image/jpeg"/>
  <Override PartName="/ppt/media/timesup%5B1%5D.wav" ContentType="audio/x-wav"/>
  <Override PartName="/ppt/media/image4.jpeg" ContentType="image/jpeg"/>
  <Override PartName="/ppt/media/thinktheme%5B1%5D.wav" ContentType="audio/x-wav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ED05-63DF-47AC-95F4-D2678B4030CC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A.  What is it lik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B.  How do people relate to the physical world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C.  How do people, goods, and ideas move from one location to another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D.  Where is it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E.  How are places similar or different?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BBF-31B9-4BB5-B219-DE36FF4B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828-E650-4C56-A246-52D2FF8D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590-0D4C-475F-B121-95CDF2C1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A06-7617-4799-B24A-B00A944F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226-AD60-4D81-8DD7-03E8FF5A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917-41A4-462F-9E7A-D5CA0F77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B77-B6AD-41EE-A0D9-CDFDABA1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96B-093F-4131-9412-1B96E29E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B06-84CA-4E51-B1EB-943B6608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8BE-87C8-41FF-97C2-27A1B047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CD6-E472-4FF7-BDD2-83F2F8D8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7CF-19B3-4823-86E1-3534EB63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92EA-85FF-4038-AB5E-1EE3A37D7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19.xml"/><Relationship Id="rId22" Type="http://schemas.openxmlformats.org/officeDocument/2006/relationships/slide" Target="slide24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slide" Target="slide20.xml"/><Relationship Id="rId26" Type="http://schemas.openxmlformats.org/officeDocument/2006/relationships/slide" Target="slide20.xml"/><Relationship Id="rId27" Type="http://schemas.openxmlformats.org/officeDocument/2006/relationships/slide" Target="slide25.xml"/><Relationship Id="rId28" Type="http://schemas.openxmlformats.org/officeDocument/2006/relationships/slide" Target="slide25.xml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" Target="slide11.xml"/><Relationship Id="rId32" Type="http://schemas.openxmlformats.org/officeDocument/2006/relationships/slide" Target="slide11.xml"/><Relationship Id="rId33" Type="http://schemas.openxmlformats.org/officeDocument/2006/relationships/slide" Target="slide16.xml"/><Relationship Id="rId34" Type="http://schemas.openxmlformats.org/officeDocument/2006/relationships/slide" Target="slide21.xml"/><Relationship Id="rId35" Type="http://schemas.openxmlformats.org/officeDocument/2006/relationships/slide" Target="slide26.xml"/><Relationship Id="rId36" Type="http://schemas.openxmlformats.org/officeDocument/2006/relationships/slide" Target="slide17.xml"/><Relationship Id="rId37" Type="http://schemas.openxmlformats.org/officeDocument/2006/relationships/slide" Target="slide22.xml"/><Relationship Id="rId38" Type="http://schemas.openxmlformats.org/officeDocument/2006/relationships/slide" Target="slide27.xml"/><Relationship Id="rId39" Type="http://schemas.openxmlformats.org/officeDocument/2006/relationships/slide" Target="slide12.xml"/><Relationship Id="rId40" Type="http://schemas.openxmlformats.org/officeDocument/2006/relationships/slide" Target="slide32.xml"/><Relationship Id="rId41" Type="http://schemas.openxmlformats.org/officeDocument/2006/relationships/slide" Target="slide31.xml"/><Relationship Id="rId42" Type="http://schemas.openxmlformats.org/officeDocument/2006/relationships/slide" Target="slide30.xml"/><Relationship Id="rId43" Type="http://schemas.openxmlformats.org/officeDocument/2006/relationships/slide" Target="slide30.xml"/><Relationship Id="rId44" Type="http://schemas.openxmlformats.org/officeDocument/2006/relationships/slide" Target="slide29.xml"/><Relationship Id="rId45" Type="http://schemas.openxmlformats.org/officeDocument/2006/relationships/slide" Target="slide28.xml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.png"/><Relationship Id="rId4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thinktheme%5B1%5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audio" Target="../media/timesup%5B1%5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1752480"/>
            <a:ext cx="8001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US Hi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inal Revi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p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51040" y="241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3623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Olaudah Equiano known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904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352680" y="45720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58128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coming an educated slave and writing about the horros of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736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43828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name of the pamphlet written by Thomas Paine to encourage colonists to fight for independ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235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00400" y="380880"/>
            <a:ext cx="3048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343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0160" y="203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895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first anti-Federalist President to be elected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235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352680" y="380880"/>
            <a:ext cx="27432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41911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omas Jeff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648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505320"/>
            <a:ext cx="691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186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95480" y="0"/>
            <a:ext cx="2819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ederalist Era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5909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conomic policies in the US were started by this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95288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exander Hamil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46480" y="280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1460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00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3372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ederalist E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133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man fought Hamilton and believed in the common, poor fa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4114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omas Jeff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244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ederalist E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1337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was land acquired under Thomas Jeff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495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uisiana Purc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1040" y="363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ederalist E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286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president during the War of 181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3962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exander Hamil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048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057400" y="3808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ederalist E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4114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roe Doct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590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document made the US a major force in the Western Hemi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1270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22440" y="15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09760" y="2043000"/>
            <a:ext cx="62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is the name of the major Native American removal under Jac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72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809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il of Te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915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98760" y="1581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752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 was Jackson so popular with the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erican at this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380988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 was the first president born West of the Appalachians and he was successful in the War of 18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82840" y="6095880"/>
            <a:ext cx="4149360" cy="5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lonie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0"/>
            <a:ext cx="11430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ks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der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5" action="ppaction://hlinksldjump"/>
              </a:rPr>
              <a:t>5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6" action="ppaction://hlinksldjump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 action="ppaction://hlinksldjump"/>
          </p:cNvPr>
          <p:cNvSpPr/>
          <p:nvPr/>
        </p:nvSpPr>
        <p:spPr>
          <a:xfrm>
            <a:off x="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1" action="ppaction://hlinksldjump"/>
          </p:cNvPr>
          <p:cNvSpPr/>
          <p:nvPr/>
        </p:nvSpPr>
        <p:spPr>
          <a:xfrm>
            <a:off x="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16002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5" action="ppaction://hlinksldjump"/>
          </p:cNvPr>
          <p:cNvSpPr/>
          <p:nvPr/>
        </p:nvSpPr>
        <p:spPr>
          <a:xfrm>
            <a:off x="32004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6" action="ppaction://hlinksldjump"/>
          </p:cNvPr>
          <p:cNvSpPr/>
          <p:nvPr/>
        </p:nvSpPr>
        <p:spPr>
          <a:xfrm>
            <a:off x="48006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7" action="ppaction://hlinksldjump"/>
          </p:cNvPr>
          <p:cNvSpPr/>
          <p:nvPr/>
        </p:nvSpPr>
        <p:spPr>
          <a:xfrm>
            <a:off x="64008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8" action="ppaction://hlinksldjump"/>
          </p:cNvPr>
          <p:cNvSpPr/>
          <p:nvPr/>
        </p:nvSpPr>
        <p:spPr>
          <a:xfrm>
            <a:off x="16002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0" action="ppaction://hlinksldjump"/>
          </p:cNvPr>
          <p:cNvSpPr/>
          <p:nvPr/>
        </p:nvSpPr>
        <p:spPr>
          <a:xfrm>
            <a:off x="32004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1" action="ppaction://hlinksldjump"/>
          </p:cNvPr>
          <p:cNvSpPr/>
          <p:nvPr/>
        </p:nvSpPr>
        <p:spPr>
          <a:xfrm>
            <a:off x="48006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2" action="ppaction://hlinksldjump"/>
          </p:cNvPr>
          <p:cNvSpPr/>
          <p:nvPr/>
        </p:nvSpPr>
        <p:spPr>
          <a:xfrm>
            <a:off x="64008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3" action="ppaction://hlinksldjump"/>
          </p:cNvPr>
          <p:cNvSpPr/>
          <p:nvPr/>
        </p:nvSpPr>
        <p:spPr>
          <a:xfrm>
            <a:off x="32004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5" action="ppaction://hlinksldjump"/>
          </p:cNvPr>
          <p:cNvSpPr/>
          <p:nvPr/>
        </p:nvSpPr>
        <p:spPr>
          <a:xfrm>
            <a:off x="48006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7" action="ppaction://hlinksldjump"/>
          </p:cNvPr>
          <p:cNvSpPr/>
          <p:nvPr/>
        </p:nvSpPr>
        <p:spPr>
          <a:xfrm>
            <a:off x="64008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9" action="ppaction://hlinksldjump"/>
          </p:cNvPr>
          <p:cNvSpPr/>
          <p:nvPr/>
        </p:nvSpPr>
        <p:spPr>
          <a:xfrm>
            <a:off x="16002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1" action="ppaction://hlinksldjump"/>
          </p:cNvPr>
          <p:cNvSpPr/>
          <p:nvPr/>
        </p:nvSpPr>
        <p:spPr>
          <a:xfrm>
            <a:off x="16002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3" action="ppaction://hlinksldjump"/>
          </p:cNvPr>
          <p:cNvSpPr/>
          <p:nvPr/>
        </p:nvSpPr>
        <p:spPr>
          <a:xfrm>
            <a:off x="32004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4" action="ppaction://hlinksldjump"/>
          </p:cNvPr>
          <p:cNvSpPr/>
          <p:nvPr/>
        </p:nvSpPr>
        <p:spPr>
          <a:xfrm>
            <a:off x="48006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5" action="ppaction://hlinksldjump"/>
          </p:cNvPr>
          <p:cNvSpPr/>
          <p:nvPr/>
        </p:nvSpPr>
        <p:spPr>
          <a:xfrm>
            <a:off x="64008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6" action="ppaction://hlinksldjump"/>
          </p:cNvPr>
          <p:cNvSpPr/>
          <p:nvPr/>
        </p:nvSpPr>
        <p:spPr>
          <a:xfrm>
            <a:off x="32004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7" action="ppaction://hlinksldjump"/>
          </p:cNvPr>
          <p:cNvSpPr/>
          <p:nvPr/>
        </p:nvSpPr>
        <p:spPr>
          <a:xfrm>
            <a:off x="48006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8" action="ppaction://hlinksldjump"/>
          </p:cNvPr>
          <p:cNvSpPr/>
          <p:nvPr/>
        </p:nvSpPr>
        <p:spPr>
          <a:xfrm>
            <a:off x="64008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9" action="ppaction://hlinksldjump"/>
          </p:cNvPr>
          <p:cNvSpPr/>
          <p:nvPr/>
        </p:nvSpPr>
        <p:spPr>
          <a:xfrm>
            <a:off x="16002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0" action="ppaction://hlinksldjump"/>
          </p:cNvPr>
          <p:cNvSpPr/>
          <p:nvPr/>
        </p:nvSpPr>
        <p:spPr>
          <a:xfrm>
            <a:off x="8001000" y="51814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1" action="ppaction://hlinksldjump"/>
          </p:cNvPr>
          <p:cNvSpPr/>
          <p:nvPr/>
        </p:nvSpPr>
        <p:spPr>
          <a:xfrm>
            <a:off x="8001000" y="44956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42" action="ppaction://hlinksldjump"/>
          </p:cNvPr>
          <p:cNvSpPr/>
          <p:nvPr/>
        </p:nvSpPr>
        <p:spPr>
          <a:xfrm>
            <a:off x="8001000" y="3733920"/>
            <a:ext cx="11430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4" action="ppaction://hlinksldjump"/>
          </p:cNvPr>
          <p:cNvSpPr/>
          <p:nvPr/>
        </p:nvSpPr>
        <p:spPr>
          <a:xfrm>
            <a:off x="8001000" y="304812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5" action="ppaction://hlinksldjump"/>
          </p:cNvPr>
          <p:cNvSpPr/>
          <p:nvPr/>
        </p:nvSpPr>
        <p:spPr>
          <a:xfrm>
            <a:off x="8001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tion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38080" y="6324480"/>
          <a:ext cx="304920" cy="30492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8380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651040" y="4324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6019920"/>
            <a:ext cx="10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2057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are the names of people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ked to end slav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886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oliti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7016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18600" y="60958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spoils sys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3048120"/>
            <a:ext cx="472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a person in office hires or appoints friends for political positions as opposed to qualified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727360" y="4172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472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62320" y="304920"/>
            <a:ext cx="4228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ackson and Reform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905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system called that helped runaway slaves escape nor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4343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derground Rail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0996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32280" y="1428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22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ction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190512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is the vision that it is the United States’ mission to expand from the Atlantic to Pacific Oc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809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ifest Des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5080" y="264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ction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981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on the Election of 1860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3581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raham Linco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7504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5960" y="3486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ction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248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was the name of the case that forced a former slave back into slavery after the death of his own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191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ed S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51040" y="3409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ctionalis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9810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hen Douglas and Abraham Lincoln both ran for president.  However, they disagreed on a key issue about slavery.  What was this issu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41148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ther or not slavery should spread w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75080" y="340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49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ndom 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905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land did the U.S. purchase after the Mexican War that now forms the border of the Rio Gra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3733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ds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65240" y="2266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vil W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362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did the South do immediately after Lincoln was elected presi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4191120"/>
            <a:ext cx="2666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vil W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was the major reason why so many people died during the Civil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3962520"/>
            <a:ext cx="5486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mericans vs. Ameri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w military weapons that had better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711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ritans from England moved to America because of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37339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 escape religious pers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57508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088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vil W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side had fewer factories, but more experienced gener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80988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2736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492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vil W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1981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was a major Union victory that was a turning point in the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39625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ttle of Gettys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565440" y="440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6480" y="310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94920" y="53341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th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document was profound in that it freed slaves, but failed to free ALL slaves in ALL are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37339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ancipation Procl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3520" y="1981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y was the presidency of Rutherford B. Hayes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65240" y="285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38480" y="6338880"/>
            <a:ext cx="1067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981080" y="380880"/>
            <a:ext cx="5067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743200" y="3429000"/>
            <a:ext cx="360360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ime is up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441972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25800" y="44355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4280" y="4397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17880" y="4822920"/>
            <a:ext cx="512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83320" y="4847040"/>
            <a:ext cx="652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publicans and Southerners made a d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s presidency was the end of the Reco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inkthem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895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2286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economic system where America supplied England with raw materials is called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457200"/>
            <a:ext cx="4229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72428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8862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canti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65240" y="89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35000" y="2712960"/>
            <a:ext cx="52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2096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id colonists feel about the British after the French and India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36576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ely.  They doubted their military power and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55760" y="2495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133720"/>
            <a:ext cx="521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49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18288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name of the incident where colonists dumped British merchandise into the Boston harb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39625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ston Tea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5080" y="1962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62320"/>
            <a:ext cx="5790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lonies to Rev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7524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id Americans win the Revolutionary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419112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e determined, knew the land better, the war was unpopular with the British 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251460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8120" y="304920"/>
            <a:ext cx="2743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3623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ch branch of government makes the law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39625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gis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590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change to the Constitution is call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7088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457200"/>
            <a:ext cx="3504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962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 amen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6:43:42Z</dcterms:created>
  <dc:creator>IPSD 204</dc:creator>
  <dc:description/>
  <dc:language>en-US</dc:language>
  <cp:lastModifiedBy>Buffalo Grove High School</cp:lastModifiedBy>
  <cp:lastPrinted>2003-09-29T17:45:32Z</cp:lastPrinted>
  <dcterms:modified xsi:type="dcterms:W3CDTF">2008-01-09T16:48:09Z</dcterms:modified>
  <cp:revision>118</cp:revision>
  <dc:subject/>
  <dc:title>No Slide Title</dc:title>
</cp:coreProperties>
</file>